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CC8-4689-47D1-9F8C-6D9A01AC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07F-4413-4694-8B02-77D97A94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A16F5-F393-4B90-89C2-957AE185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CD140-6786-4C45-A6CF-F889394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B2283-02F0-4BBA-9254-D2A3D3AD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FEBB0-B08E-4DF8-83C0-62CFCBD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7FDEF-2CAE-4675-A040-2E5206D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BC405-998B-440D-9287-5AF4F277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F00A9-4E97-43CF-B20B-92119165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C9FF8-93E5-4268-B6C4-B47E9DAF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72A3D-AD26-41C7-81E5-74C7E847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D7776-0CDF-4DB3-8700-6FF1E57E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B84-308A-4E94-96F8-ABFFF882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62B55-F17E-4AA9-94D4-48B43D07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F0A43-2EB8-42F8-9C03-5651E150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8E391-3F00-441B-B1D1-0A6D57C7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FF3D1-7414-4365-94D9-4F58CD18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050EF-481D-4AAA-9F2B-254A3A8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1651F-40FC-4204-9CB6-9A3F457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B017B-92E9-4B79-8820-DCAF4BC5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30BBA-8C31-4141-9576-F5339557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14115-C7BE-4DAF-AC75-3760CCC3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3FA81-69E0-404B-BE5D-85A17278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548-6061-4E21-BDFC-5881DC6F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F7C7E-2743-47B9-976C-D7FBB6FD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DE8D6-318A-4729-97AF-93EEBC58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1F99A-9EB3-4A0E-AFE3-FC8DD89F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2BEA-E455-45FD-AE37-BDAC669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E5A17-8DD1-41F5-B5BA-174097BB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88CB0-C9EE-47AB-820E-6A12EDB7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2D45C-21E8-45EC-92D4-05D81669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7624D-ADEA-4F8C-9A88-420FB129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1F91D-2AC5-4425-BA87-F2E6CA6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DF609-7C9C-4853-B29B-CC1DE60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D4DB-6692-4346-81EE-9C3E4164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F48FC-7EB3-4B46-A780-5BE3036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145E-48B4-418E-9BC7-94A17AF4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B5CFB-1F31-4086-BECE-58BEA1D0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CEBEE-CA53-41F9-B1C8-2351E4AB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66ED5-4285-468B-8683-A56E381F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60657-C6AD-4813-B696-A785BDAE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4ACFA-0955-43E8-AF31-1A2D47B3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79789-EB0C-43EF-9B0A-BEAA855D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4DFA5-FB1B-40D7-A304-D8805D54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C7DD6-11F0-4DB2-9C53-4362A43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5AD1-8A93-4EB2-8D7A-C38F9CAA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4D6CD-F4A8-4DA2-87B4-86C8E0D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9120B-901E-4608-AB83-36B8F0A9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B20DE-5358-464B-BF8E-C55145C0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C4F8D-11CB-49E3-98E4-E5D9981C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16C5D-7134-4226-9494-518A0E27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608C-5E86-4764-9C60-B443C1D7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2F6F-E71B-45D2-BA09-8A598EE2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4A14-C135-4820-B006-426D6DC3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C412-A25C-427D-B1BC-35EE591E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9EEE-0114-4260-BA1E-F311119F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434-D04D-4492-819A-62696BD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0614-8B85-43CC-8280-F384B79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C07D-6B98-42D0-96E2-A342FFA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ED9-0D6B-4ADE-9EDA-81E33489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A39B-F886-489F-BCBB-0EB20B34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1B4E-7CAA-4D25-A34E-BAC25CB5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475B-280B-498E-BDF2-577FA912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BB12-2777-4A99-95A6-0692D97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5C00-A3BD-475C-9A10-801C296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4F34-44D5-4B26-8258-C32E1E50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6C55-DBAD-4141-AE74-6834F1EE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E88-3A94-4530-BE42-6195B133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2A69-F950-42F4-A15B-AA3E6A0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8EC0-D855-47B2-804F-529853EF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6D053-0AA1-4182-BC67-FB90FE6F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7714-7978-476F-B2B1-21246FE0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78FC-C3FA-434F-A8C3-87505290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C1D2B-6E5F-4F5E-B53F-4A90E412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9E74-3C8C-42E0-95F4-368761B8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62F82-7436-4E60-9505-4B60A016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C5F3-F2A3-4EDC-AF1D-9CFFA200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5838-2236-455F-8D2C-5A867E51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BD2-64D8-4919-A0B1-B200EA50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05A4-C7D1-4872-9D11-87669237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667B-3D41-4D11-B5AE-757E543C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FDEB-D594-4B30-900C-0A4EF0D7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DB305-D1E1-466E-8412-23E13AB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7A7B-29B0-4E97-AA82-5BC4BC4F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9265-B018-48C9-923A-244CA2B2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D5078-2D9F-4AEF-BC7A-C2D966B8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6E4D-5362-408F-A2A6-D95E7EB2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0805-A0BB-4E8F-8E78-32543C02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A298-0CF1-42A8-8E81-38EDBF51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AE4-88FE-4DD0-BA59-0720B34C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FDB1-5EB5-47A2-A02B-848BBD6B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6F87-8D22-406F-8583-E8997F1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45591-71F4-4F4A-93AB-1380DCB7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BC4C4-0C5F-4DE9-BBB4-0FC87441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11B48-FD5C-4D72-8E62-9CCC961E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AF751-696B-4AC3-A9D6-4184C68E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68A0-85B4-49C0-A48F-FF08EC4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5B70-6229-4C5D-89CB-51F4C2A6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474CF-98FC-4A93-9866-D9C87969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E5FA-CBBF-4C59-9219-AB25271A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646-F6C0-40D0-9456-31349F8B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3C52-6151-4097-A3D3-A2631FCA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541E-E4CD-4464-867C-E8261100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6E255-345E-4ABC-926B-2797B05C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57D4-1920-4635-9938-394B8666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8EDE5-D4E3-4F89-90CF-DFB5DA3B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4404-C853-4231-99EF-892B5A01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DB675-54A4-4398-9BB5-016D3F0A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DC6F7-3944-4501-B382-CB6BA887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A17AB-5D9E-41E4-B06B-597CFB7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C860E-4A4C-4C41-854E-DDFC24E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613-CF12-48BC-8D0D-F7A99015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93861-76B1-4AF0-B278-D3703AB8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4A12-1D90-456B-A2D9-CF0FDD7B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F90A-392D-4343-B4C8-90479328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988DA-D7EC-406A-B705-7105CC37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B276-89F6-4525-89BD-3C6C00C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0F51D-11B8-4BBB-BA19-AF5E6928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53E90-D434-4955-AA8E-CB780758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39B59-D021-4FCF-9FC1-F59E2C5A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29774-1481-46B2-AD53-95F1B968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7E20-56F3-46C5-A315-52E208F1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6E6-4948-4DB6-B699-28C2D310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E63F7-9591-4F39-8537-9E6AF72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2E12F-E288-422F-BFBC-F04EA87E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1E634-85C9-407A-810D-77E9042C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195AC-CD70-49B4-9AD9-62002739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08623-CF25-4F58-973D-553BB5AB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D9DBB-02FE-4BE5-A330-717236E0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8C17F-BE86-409F-B3CB-5A6A0E2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A6541-9393-4CCE-9780-370167E8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DA252-A5AB-4396-A3BD-6D449D56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0791C-C0EF-4A72-BBB5-043D4828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FEE-154E-4DAE-8150-2521F02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CCDBE-6B62-46BB-A6C0-3B4B8584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B08BC-0BD2-4AAB-915C-968E3650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7EE20-F94F-4555-9084-A2D6B1F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BB02A-7B02-4266-9437-5A88563F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AC87C-C8CF-4B10-B18E-9DC0DBDC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AA93F-A5EF-4385-8B8C-EAF328CA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6AD26-F375-42AB-B9A0-6F1DC78E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54C67-9428-4F86-A87C-851FE299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5B84D-A3BF-40B1-B475-92013F4E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445E8-AED0-4916-93A9-C3ED32C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68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686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686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686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686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687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687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D23D-32ED-4557-98B8-24D1C1F984D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2A85-80D3-438A-89FF-FC065955A5A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16FC-A300-487E-A0E5-F04963A716D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1822-FDD8-42D6-8E54-9E46743F489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788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789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789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789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789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789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789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F00E-3978-4853-B9BA-1F74F2F6D9A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ACE7-CDBA-49C4-923A-E87B2CB880F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4FDF-C3D0-49DC-B31A-E3206A1A3C1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5302-CB28-4647-96D6-6DA1D6B83AA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B565-1EEC-47E6-9B95-DA30429298F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191-1FDA-4B7C-91DA-DC08060F63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765B-1719-4004-8B25-3983B5B6C84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D01F-F150-4ADE-8020-9FA4F820859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图片 3081" descr="QQ截图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10" name="矩形 3082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升国旗</a:t>
            </a:r>
            <a:endParaRPr b="1" i="1" lang="en-US" sz="2400" spc="-1" strike="noStrike" u="sng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5219640" y="2421000"/>
          <a:ext cx="306216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12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shēn</a:t>
            </a:r>
            <a:r>
              <a:rPr b="0" i="1" lang="zh-CN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ɡ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zhōn</a:t>
            </a:r>
            <a:r>
              <a:rPr b="0" i="1" lang="zh-CN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ɡ</a:t>
            </a: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升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中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3" name="图片 13342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6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547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9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升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1" name="图片 14345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4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555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7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左边撇小小右边竖长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升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0" name="图片 15369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564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6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中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8" name="图片 16392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1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572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一竖穿扁口上短下更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中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7" name="图片 17417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219640" y="2421000"/>
          <a:ext cx="306216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12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shēn</a:t>
            </a:r>
            <a:r>
              <a:rPr b="0" i="1" lang="zh-CN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ɡ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zhōn</a:t>
            </a:r>
            <a:r>
              <a:rPr b="0" i="1" lang="zh-CN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ɡ</a:t>
            </a: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升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中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5" name="guzheng.mp3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9487" descr="kuang%20(36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20484" descr="r05"/>
          <p:cNvPicPr/>
          <p:nvPr/>
        </p:nvPicPr>
        <p:blipFill>
          <a:blip r:embed="rId1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20485" descr="kuang%20(36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图片 4100" descr="1tC5+rn6xuw=_GTv6Yb6r5FRR"/>
          <p:cNvPicPr/>
          <p:nvPr/>
        </p:nvPicPr>
        <p:blipFill>
          <a:blip r:embed="rId1"/>
          <a:stretch/>
        </p:blipFill>
        <p:spPr>
          <a:xfrm>
            <a:off x="0" y="0"/>
            <a:ext cx="9144000" cy="66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图片 5127" descr="10303578_685613"/>
          <p:cNvPicPr/>
          <p:nvPr/>
        </p:nvPicPr>
        <p:blipFill>
          <a:blip r:embed="rId1"/>
          <a:stretch/>
        </p:blipFill>
        <p:spPr>
          <a:xfrm>
            <a:off x="1116000" y="907920"/>
            <a:ext cx="7056360" cy="4772160"/>
          </a:xfrm>
          <a:prstGeom prst="rect">
            <a:avLst/>
          </a:prstGeom>
          <a:ln w="0">
            <a:noFill/>
          </a:ln>
        </p:spPr>
      </p:pic>
      <p:pic>
        <p:nvPicPr>
          <p:cNvPr id="517" name="国歌.mp3" descr=""/>
          <p:cNvPicPr/>
          <p:nvPr/>
        </p:nvPicPr>
        <p:blipFill>
          <a:blip r:embed="rId2"/>
          <a:stretch/>
        </p:blipFill>
        <p:spPr>
          <a:xfrm>
            <a:off x="457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02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9" name="图片 6149" descr="QQ截图未命名"/>
          <p:cNvPicPr/>
          <p:nvPr/>
        </p:nvPicPr>
        <p:blipFill>
          <a:blip r:embed="rId1"/>
          <a:stretch/>
        </p:blipFill>
        <p:spPr>
          <a:xfrm>
            <a:off x="2556000" y="1341360"/>
            <a:ext cx="415764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生字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2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Arial"/>
              </a:rPr>
              <a:t>我们     国旗     升起    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Arial"/>
              </a:rPr>
              <a:t>立正     敬礼     歌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8197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9221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9223" descr="QQ截图未命名"/>
          <p:cNvPicPr/>
          <p:nvPr/>
        </p:nvPicPr>
        <p:blipFill>
          <a:blip r:embed="rId2"/>
          <a:stretch/>
        </p:blipFill>
        <p:spPr>
          <a:xfrm>
            <a:off x="3112920" y="1700280"/>
            <a:ext cx="373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3" name="Picture 2" descr="RFNDXzI2MzcguA==_LzDatIfprR8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n bi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/>
  <dc:description/>
  <dc:language>en-US</dc:language>
  <cp:lastModifiedBy>万润仪器贸易公司</cp:lastModifiedBy>
  <dcterms:modified xsi:type="dcterms:W3CDTF">2020-08-24T01:54:1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